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39A-4101-4E1F-A339-4C0BB090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229-9697-46BA-A14D-75A3C8F8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316-68A4-4B1E-A72E-0D049108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B86-2A0C-464D-B223-3FE7CD72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ED11-4E52-459B-A933-22B26F11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2208-7CD3-4163-989B-A43E3878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6DE1-3CA8-455F-A9A0-AF6A5706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B5C2-17FB-4232-B01F-830347B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0319-3A97-41C3-A124-16059034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99F8-98AB-47FE-9539-E0E9118F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92EF-FEAB-4E05-A187-1F30A7B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E1F-125A-4E1C-B23F-F25A19A0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B46E-A6E3-4A70-9AEA-D33222D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DF9F-432C-4F30-B2B9-1995FF9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BCA5-A6DF-461C-9CC8-D11DF5BA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DB7-D610-467E-A1AB-2987543D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F498-D5B3-4EA7-BFE9-6064B654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5AA-CE6F-408F-AC84-13F92221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F0A-B438-45F7-9227-D58F7E3E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D13-3D06-4209-B575-959ACCC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39C-74E0-41DF-AA1B-AC6EF162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B5C-16E5-4F3C-AB2F-3AF1E89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1C1-962F-4554-B7AB-A953461B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08E-74E8-4566-8CB1-864F4E1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7AE-70AB-4548-BB83-143CEDBABAFA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BB49-57BC-482D-8C9E-E724FA850CA6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Lucida Handwriting"/>
              </a:rPr>
              <a:t>Lisa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0996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Friendly, nice, approachable, small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Daughter of Bronwyn and Melven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loves hockey, horses, birthdays and bbqs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feels exhausted after a big test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fears big spiders and fires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Who would someday like to have a horse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Marker Felt"/>
              </a:rPr>
              <a:t>Brown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105520" y="169560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0:18:32Z</dcterms:created>
  <dc:creator>Tim Marriott</dc:creator>
  <dc:description/>
  <dc:language>en-US</dc:language>
  <cp:lastModifiedBy>Tim Marriott</cp:lastModifiedBy>
  <cp:lastPrinted>2009-02-11T19:33:55Z</cp:lastPrinted>
  <dcterms:modified xsi:type="dcterms:W3CDTF">2009-02-11T19:33:57Z</dcterms:modified>
  <cp:revision>4</cp:revision>
  <dc:subject/>
  <dc:title>Lisa</dc:title>
</cp:coreProperties>
</file>